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AB5-991A-4BD8-BC68-03D9C3C4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966-24A3-449D-8C9E-61D1CC74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746-559B-4F96-A1F4-9555E1A6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D80-68F7-4D58-B494-34AC3BB3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CB4-2A28-47C4-93F7-8FC5714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74F-97CE-4972-93E4-4AFE05F3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DAB-043A-4610-A5A8-12734F9F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114-BB01-48C8-8D48-D4CDC9C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D80-01E2-41D2-B11F-29B81849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BC8-0E13-4262-B942-5EF134D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B57-E12D-4643-9CBE-213C51D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891-D15C-4B9C-A18C-B237F5F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06B7-416C-43CD-ADBA-F79F35FE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an excer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te a p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e diffe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movies, videos, or s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gross-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first line of the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picture or piece of artwork to represent a character, a scen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the audience to write something sh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volume of your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personal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around the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sound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s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se for emph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tom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audienc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a 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 about an important word in the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 at a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something about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or contrast with anoth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hypothetical situation for the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body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he tone of your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slowly or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or read a children’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53:57Z</dcterms:created>
  <dc:creator>Valued Gateway Client</dc:creator>
  <dc:description/>
  <dc:language>en-US</dc:language>
  <cp:lastModifiedBy>Valued Gateway Client</cp:lastModifiedBy>
  <dcterms:modified xsi:type="dcterms:W3CDTF">2011-10-19T16:11:52Z</dcterms:modified>
  <cp:revision>2</cp:revision>
  <dc:subject/>
  <dc:title>Hooks</dc:title>
</cp:coreProperties>
</file>